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898A-7B3F-4BAA-8E19-1229195C5F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onstrate my camera at this po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a picture. Remove card and add it to my card reader to transfer pict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Picasa to hold pict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 Picasa and it’s editing fun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6720E-0E5A-413F-8B61-9DA8A7EE40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4D4A-DE5A-459D-9E26-6AE1794DE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3A75-CEF9-43DF-A936-F0DFC30D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FBBC-82BB-4C88-AA6E-580041EDE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2A08-33DB-4C69-B90C-C470ADDEF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0ED4-B21E-4034-A28D-49F61694E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7E31-3E3A-44EB-A80A-C763FAB3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F14D-82FC-4B2E-B619-0294045D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BD4B-BC20-4393-94BA-96D2769AB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2F47-3398-4D1E-A234-388D3B47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6FBF-6075-4B27-811F-F493214B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DDDC-0531-4AFA-96D5-8696B96E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C69F-9615-48B8-B985-B9CD3480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A2CE-E327-4D6E-8FFF-D0E54EDB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EA95-0A44-4C56-879E-6AEFE95E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60A3D-6864-4777-AD73-9764FFB1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7466-2AC8-4F86-8F6A-ED65EEE30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0102-0C30-4FB1-8131-BE58F27CB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BCDEA7-A8E8-4096-B605-11444B92F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EC0A69-8B10-43CD-A7B5-125B0A52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AED649-ED78-4309-873B-71A56BBF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5D86ED-C33D-451C-A012-39D5B784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58A446-490D-4CEA-9D3F-75B46567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3875-A0ED-4583-A058-CD65ABA5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3AD268-08E2-424A-BF26-7089A39E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990765-CBC7-4E37-B359-D36C6A1F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BDF26D-5B74-4A6E-B60D-4185A3E9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E23805-68AD-43BB-BE89-D08449E8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184908-633B-49B4-868A-90CD9321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8C5A5E-0C86-4496-AE0B-741ADEB89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C19E21-549F-4BE3-AB30-BAE2D3492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43428-A358-4613-8136-5ACBF1393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73ECB-78A0-4083-BB89-7F4E78DA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16220-D0A4-4925-89F9-8AAB5D4A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4F68-4EEF-4CFA-8584-9C7776BE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CE46D-7EDB-4957-8422-79A39B37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37B44-85E5-41C2-80A1-84B26220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0BAB2-F038-4385-995A-3900C28D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E3F82-E70A-4B24-AAF1-1E6D9B8F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D746E-9F16-4AD1-BE03-68288995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A6541-8CEB-45B2-9260-B864162C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5BB67-6C47-40AE-8D08-A74B587B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99D61-DBB8-4380-9F8C-E15355F53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D731C-4DE0-43F4-9F36-AC3F0A216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BDDE-AB87-49DA-8F55-C30991CA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12AB-FD8D-497D-BCEC-39F503DD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41D3-5CCE-41AD-9B42-93399DC8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9EEC-4A49-40E3-B90A-C762BF0E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4D9B-002F-40A3-85DB-CE8615A0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03E2-C91E-4F76-A589-DDAAFDBFF3B2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41FF-2C34-46C3-B709-4E10E9E725ED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3616-3D35-45BA-9F19-9913D7E18D85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B6DC-6123-4A94-B9F3-309DECD6A4C4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ompfight.com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bighugelabs.com/flickr/cube.php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bighugelabs.com/flickr/motivator.php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icasa.google.com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hp?hl=en&amp;tab=wi" TargetMode="External"/><Relationship Id="rId2" Type="http://schemas.openxmlformats.org/officeDocument/2006/relationships/hyperlink" Target="http://www.barrysclipart.com/" TargetMode="External"/><Relationship Id="rId3" Type="http://schemas.openxmlformats.org/officeDocument/2006/relationships/hyperlink" Target="http://office.microsoft.com/en-us/clipart/default.aspx" TargetMode="External"/><Relationship Id="rId4" Type="http://schemas.openxmlformats.org/officeDocument/2006/relationships/hyperlink" Target="http://www.flickr.com/" TargetMode="External"/><Relationship Id="rId5" Type="http://schemas.openxmlformats.org/officeDocument/2006/relationships/hyperlink" Target="http://bighugelabs.com/flickr/" TargetMode="External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juliazanglcolby.wikispaces.com/FLIP+Recorders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imp.org/" TargetMode="External"/><Relationship Id="rId2" Type="http://schemas.openxmlformats.org/officeDocument/2006/relationships/hyperlink" Target="http://picasa.google.com/download/" TargetMode="External"/><Relationship Id="rId3" Type="http://schemas.openxmlformats.org/officeDocument/2006/relationships/hyperlink" Target="http://www.shutterfly.com/" TargetMode="External"/><Relationship Id="rId4" Type="http://schemas.openxmlformats.org/officeDocument/2006/relationships/hyperlink" Target="http://www.flickr.com/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Digital Imagery: Cameras and the Web 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Cindy DiDonato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3" name="Picture 3" descr="C:\Program Files\Microsoft Office\Media\CntCD1\ClipArt2\j0232402.wmf"/>
          <p:cNvPicPr/>
          <p:nvPr/>
        </p:nvPicPr>
        <p:blipFill>
          <a:blip r:embed="rId1"/>
          <a:stretch/>
        </p:blipFill>
        <p:spPr>
          <a:xfrm>
            <a:off x="6172200" y="4419720"/>
            <a:ext cx="177624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Flickr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t’s owned by Yahoo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ou can join if you have or get a Yahoo email account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t’s free if your only upload 100mb per month/5mg per phot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d create 3 set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 account is  $24.95 a year with unlimited storage and unlimited set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ompfight : Copyright Free Imag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arch at  </a:t>
            </a: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Compfight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Flickr search too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ype in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Flowers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in the search box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on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reative Common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Only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hoose a picture and click on it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croll down to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Additional Information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d click on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ome Rights Reserved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ad how use the pictur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reate a Flickr Account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gn In with you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Yahoo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mail addre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pload Pictur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ag them and describe them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vite others to view them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dit them with Picnik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FD’s Flickr Toys: </a:t>
            </a:r>
            <a:r>
              <a:rPr b="0" lang="en-US" sz="4000" spc="-1" strike="noStrike" u="sng">
                <a:solidFill>
                  <a:srgbClr val="67afbd"/>
                </a:solidFill>
                <a:uFillTx/>
                <a:latin typeface="Trebuchet MS"/>
                <a:hlinkClick r:id="rId1"/>
              </a:rPr>
              <a:t>Picture Cub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4" name="Picture 3" descr=""/>
          <p:cNvPicPr/>
          <p:nvPr/>
        </p:nvPicPr>
        <p:blipFill>
          <a:blip r:embed="rId2"/>
          <a:stretch/>
        </p:blipFill>
        <p:spPr>
          <a:xfrm>
            <a:off x="2901960" y="2249640"/>
            <a:ext cx="334008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FD Flickr Toys: </a:t>
            </a:r>
            <a:r>
              <a:rPr b="0" lang="en-US" sz="4000" spc="-1" strike="noStrike" u="sng">
                <a:solidFill>
                  <a:srgbClr val="67afbd"/>
                </a:solidFill>
                <a:uFillTx/>
                <a:latin typeface="Trebuchet MS"/>
                <a:hlinkClick r:id="rId1"/>
              </a:rPr>
              <a:t>Motivator Tool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2"/>
          <a:stretch/>
        </p:blipFill>
        <p:spPr>
          <a:xfrm>
            <a:off x="1868400" y="2249640"/>
            <a:ext cx="540720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Digital Storytelling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gital Storytelling Finds its Place in the Classroo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tory Cor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lling Their Stori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reative Narrations (Bost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reate Digital Stories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oicethrea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50 Web 2.0 Ways to Tell a Stor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hotostory 3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Movi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indows Moviemak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reate Your Own Imag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1"/>
          <a:stretch/>
        </p:blipFill>
        <p:spPr>
          <a:xfrm>
            <a:off x="6172200" y="32767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"/>
          <p:cNvPicPr/>
          <p:nvPr/>
        </p:nvPicPr>
        <p:blipFill>
          <a:blip r:embed="rId2"/>
          <a:stretch/>
        </p:blipFill>
        <p:spPr>
          <a:xfrm>
            <a:off x="3505320" y="4876920"/>
            <a:ext cx="1325520" cy="1325520"/>
          </a:xfrm>
          <a:prstGeom prst="rect">
            <a:avLst/>
          </a:prstGeom>
          <a:ln w="0">
            <a:noFill/>
          </a:ln>
        </p:spPr>
      </p:pic>
      <p:sp>
        <p:nvSpPr>
          <p:cNvPr id="228" name="TextBox 15"/>
          <p:cNvSpPr/>
          <p:nvPr/>
        </p:nvSpPr>
        <p:spPr>
          <a:xfrm>
            <a:off x="685800" y="2590920"/>
            <a:ext cx="5334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digital cam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memory card of at least 1 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 cable or card reader to transfer im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2" descr=""/>
          <p:cNvPicPr/>
          <p:nvPr/>
        </p:nvPicPr>
        <p:blipFill>
          <a:blip r:embed="rId3"/>
          <a:stretch/>
        </p:blipFill>
        <p:spPr>
          <a:xfrm>
            <a:off x="3962520" y="1981080"/>
            <a:ext cx="20746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5 in 1 Card Reader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2514600" y="2286000"/>
            <a:ext cx="44197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USB Card Reader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2209680" y="2249640"/>
            <a:ext cx="495324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amera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re is a wide variety of cameras on the market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ost digital cameras can make movie clip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 own a Panasonic DMC-FX7 that serves my needs well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y iPhone can take pictur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6" name="Picture 2" descr="C:\Program Files\Microsoft Office\Media\CntCD1\ClipArt3\j0237168.wmf"/>
          <p:cNvPicPr/>
          <p:nvPr/>
        </p:nvPicPr>
        <p:blipFill>
          <a:blip r:embed="rId1"/>
          <a:stretch/>
        </p:blipFill>
        <p:spPr>
          <a:xfrm>
            <a:off x="3352680" y="380880"/>
            <a:ext cx="190512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diting Software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 use </a:t>
            </a: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Picasa3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software to edit my pictur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o to Google Imag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arch for a picture of a flower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ave it to a folder like My Picture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pen Picas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on Import then Select Device and then Folder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nd the picture and save it to Picas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Use Picasa to edit the softwar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2"/>
          <a:stretch/>
        </p:blipFill>
        <p:spPr>
          <a:xfrm>
            <a:off x="4724280" y="1295280"/>
            <a:ext cx="3589560" cy="60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Digital Images and the Web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e web has an unlimited supply of image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Be aware of web images and copyright issue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Google Images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 Advanced Image Search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B&amp;W, faces , news items, type of file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7afbd"/>
                </a:solidFill>
                <a:uFillTx/>
                <a:latin typeface="Georgia"/>
                <a:hlinkClick r:id="rId2"/>
              </a:rPr>
              <a:t>Barry’s  Clipart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67afbd"/>
                </a:solidFill>
                <a:uFillTx/>
                <a:latin typeface="Georgia"/>
                <a:hlinkClick r:id="rId3"/>
              </a:rPr>
              <a:t>MS Office Clipart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600" spc="-1" strike="noStrike" u="sng">
                <a:solidFill>
                  <a:srgbClr val="67afbd"/>
                </a:solidFill>
                <a:uFillTx/>
                <a:latin typeface="Georgia"/>
                <a:hlinkClick r:id="rId4"/>
              </a:rPr>
              <a:t>Flickr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and  </a:t>
            </a:r>
            <a:r>
              <a:rPr b="0" lang="en-US" sz="2600" spc="-1" strike="noStrike" u="sng">
                <a:solidFill>
                  <a:srgbClr val="67afbd"/>
                </a:solidFill>
                <a:uFillTx/>
                <a:latin typeface="Georgia"/>
                <a:hlinkClick r:id="rId5"/>
              </a:rPr>
              <a:t>Flickr Toys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2" name="Picture 2" descr="C:\Program Files\Microsoft Office\Media\CntCD1\ClipArt1\j0199108.wmf"/>
          <p:cNvPicPr/>
          <p:nvPr/>
        </p:nvPicPr>
        <p:blipFill>
          <a:blip r:embed="rId6"/>
          <a:stretch/>
        </p:blipFill>
        <p:spPr>
          <a:xfrm>
            <a:off x="6705720" y="609480"/>
            <a:ext cx="17730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Flip Video Camera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1337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lip Video takes movies up to 2 hours in lengt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expensive to buy and easy to u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40 Ways to Use Flip Video in the Classroo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igitalWish.com is allowing teachers to order the FLIP ultra on a buy one get one free 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dit Movies in Flip Share Software (comes with camera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diting Your Pictur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ou can use Paint which is  built in the Window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perating system and open source’s</a:t>
            </a: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 Gimp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ou can use Picnik which is included at Flickr’s sit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ou can use </a:t>
            </a: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2"/>
              </a:rPr>
              <a:t>Picasa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ou can use Adobe Photoshop or Adobe Photoshop Elements 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f you upload pictures to </a:t>
            </a: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3"/>
              </a:rPr>
              <a:t>Shutterfly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r </a:t>
            </a:r>
            <a:r>
              <a:rPr b="0" lang="en-US" sz="2800" spc="-1" strike="noStrike" u="sng">
                <a:solidFill>
                  <a:srgbClr val="67afbd"/>
                </a:solidFill>
                <a:uFillTx/>
                <a:latin typeface="Georgia"/>
                <a:hlinkClick r:id="rId4"/>
              </a:rPr>
              <a:t>Flickr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icture sites, you can edit ther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1T17:25:12Z</dcterms:created>
  <dc:creator>Cindy DiDonato</dc:creator>
  <dc:description/>
  <dc:language>en-US</dc:language>
  <cp:lastModifiedBy>Cindy DiDonato</cp:lastModifiedBy>
  <dcterms:modified xsi:type="dcterms:W3CDTF">2010-03-21T15:58:32Z</dcterms:modified>
  <cp:revision>29</cp:revision>
  <dc:subject/>
  <dc:title>Digital Imagery</dc:title>
</cp:coreProperties>
</file>